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whoosh.wav" ContentType="audio/x-wav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F9D1-246A-4E45-9895-7E9141A27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7769-315F-422E-8E18-97DEFC0708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6DC6-9704-4445-A8F2-E37355531B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1312-D5EF-44C5-A67D-21BEC805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C6F1-7328-40A3-BEC2-B7375CAD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5F6-7EA9-437B-81C0-6AFAC2AB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8141-3714-4628-9D29-F8AE861D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55B4-B94D-4EEC-9438-DB6DF1C6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9FCC-D6B0-4159-865D-1C58B5F8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2866-BDEE-444A-B999-46534E10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5E42-5EB4-4669-9F13-DD6DE3A1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F425-9F76-4F60-AFB5-E7A8A1E4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19CD-281F-49C6-A562-4813CA6F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A520-9693-4117-A3C0-FE307CD8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1163-1423-41BB-B7F2-72586488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8FC9-552C-48DE-847E-22AD1ECE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0446-6836-412A-940A-D890A21C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108C-15AA-4629-8A0C-22FD7841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A584-3A74-4E0E-B0AC-47039115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F897-3A97-4844-ADFC-7A8CFE90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72E-CE6A-4511-82E4-AC7A8B23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EE9-9232-4E1C-9108-6321F5D2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AD9F-727E-4327-AD06-BF6E1C14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541C-7BD6-441F-B823-151D801D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14B-ADB0-42E7-A89B-CE7AAFA0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04A-D749-428A-BDEF-6A5B6290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84D6-557A-408C-A735-3C705D0C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D:\Hot Chilli\Webs\powerpoint\Bus gen3\educatcarh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51AA-B390-4596-85E0-2DDDDCE34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D:\Hot Chilli\Webs\powerpoint\Bus gen3\educatcarh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8D33-07D9-4663-A8CE-70D6736BC56F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7cc17"/>
                </a:solidFill>
                <a:latin typeface="Arial"/>
              </a:rPr>
              <a:t>NOUNS</a:t>
            </a:r>
            <a:endParaRPr b="1" lang="en-US" sz="15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d by Amanda Hark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tembe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val 11"/>
          <p:cNvSpPr/>
          <p:nvPr/>
        </p:nvSpPr>
        <p:spPr>
          <a:xfrm>
            <a:off x="4876920" y="1295280"/>
            <a:ext cx="2438280" cy="99072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2133720" y="304920"/>
            <a:ext cx="3352680" cy="91440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240" y="541008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*Names for people, places, animals, and things are called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ouns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04920" y="22860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Tahoma"/>
              </a:rPr>
              <a:t>Two children lived across the street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23623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es this sentence name a person, place or th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2362320" y="289548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0" y="38098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Children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are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MSj03275460000[1].wav" descr=""/>
          <p:cNvPicPr/>
          <p:nvPr/>
        </p:nvPicPr>
        <p:blipFill>
          <a:blip r:embed="rId1"/>
          <a:stretch/>
        </p:blipFill>
        <p:spPr>
          <a:xfrm>
            <a:off x="6858000" y="36957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2"/>
          <p:cNvSpPr/>
          <p:nvPr/>
        </p:nvSpPr>
        <p:spPr>
          <a:xfrm>
            <a:off x="0" y="4648320"/>
            <a:ext cx="61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treet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a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lace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6532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14"/>
          <p:cNvSpPr/>
          <p:nvPr/>
        </p:nvSpPr>
        <p:spPr>
          <a:xfrm>
            <a:off x="3505320" y="1600200"/>
            <a:ext cx="2361960" cy="76212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11"/>
          <p:cNvSpPr/>
          <p:nvPr/>
        </p:nvSpPr>
        <p:spPr>
          <a:xfrm>
            <a:off x="3962520" y="762120"/>
            <a:ext cx="2133360" cy="83808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477120" y="0"/>
            <a:ext cx="1371600" cy="83808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2666880" y="0"/>
            <a:ext cx="1219320" cy="91440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5714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*Names for people, places, animals, and things are called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uns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Tahoma"/>
              </a:rPr>
              <a:t>The girl and the boy brought bread to the birds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es this sentence name a person, place or th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2743200" y="266688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0" y="3581280"/>
            <a:ext cx="8839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Girl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boy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name a </a:t>
            </a: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person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MSj00748740000[1].wav" descr=""/>
          <p:cNvPicPr/>
          <p:nvPr/>
        </p:nvPicPr>
        <p:blipFill>
          <a:blip r:embed="rId1"/>
          <a:stretch/>
        </p:blipFill>
        <p:spPr>
          <a:xfrm>
            <a:off x="8344080" y="52959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5"/>
          <p:cNvSpPr/>
          <p:nvPr/>
        </p:nvSpPr>
        <p:spPr>
          <a:xfrm>
            <a:off x="0" y="434340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Bread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is a </a:t>
            </a: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thing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23400" y="5029200"/>
            <a:ext cx="487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Birds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are </a:t>
            </a: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animals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195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7cc17"/>
                </a:solidFill>
                <a:latin typeface="Arial"/>
              </a:rPr>
              <a:t>GREAT JOB!!!</a:t>
            </a:r>
            <a:endParaRPr b="1" lang="en-US" sz="8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You’re flying high!  Way to go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7" descr="dumbo1"/>
          <p:cNvPicPr/>
          <p:nvPr/>
        </p:nvPicPr>
        <p:blipFill>
          <a:blip r:embed="rId1"/>
          <a:stretch/>
        </p:blipFill>
        <p:spPr>
          <a:xfrm>
            <a:off x="5537160" y="2133720"/>
            <a:ext cx="3606840" cy="421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 u="sng">
                <a:solidFill>
                  <a:srgbClr val="f7cc17"/>
                </a:solidFill>
                <a:uFillTx/>
                <a:latin typeface="Arial"/>
              </a:rPr>
              <a:t>NOUNS:</a:t>
            </a:r>
            <a:endParaRPr b="1" lang="en-US" sz="65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Tahoma"/>
              </a:rPr>
              <a:t>A noun names a </a:t>
            </a:r>
            <a:r>
              <a:rPr b="0" i="1" lang="en-US" sz="7800" spc="-1" strike="noStrike" u="sng">
                <a:solidFill>
                  <a:srgbClr val="ffffff"/>
                </a:solidFill>
                <a:uFillTx/>
                <a:latin typeface="Tahoma"/>
              </a:rPr>
              <a:t>person</a:t>
            </a:r>
            <a:r>
              <a:rPr b="0" lang="en-US" sz="7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7800" spc="-1" strike="noStrike" u="sng">
                <a:solidFill>
                  <a:srgbClr val="ffffff"/>
                </a:solidFill>
                <a:uFillTx/>
                <a:latin typeface="Tahoma"/>
              </a:rPr>
              <a:t>place</a:t>
            </a:r>
            <a:r>
              <a:rPr b="0" lang="en-US" sz="7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7800" spc="-1" strike="noStrike" u="sng">
                <a:solidFill>
                  <a:srgbClr val="ffffff"/>
                </a:solidFill>
                <a:uFillTx/>
                <a:latin typeface="Tahoma"/>
              </a:rPr>
              <a:t>animal</a:t>
            </a:r>
            <a:r>
              <a:rPr b="0" lang="en-US" sz="7800" spc="-1" strike="noStrike">
                <a:solidFill>
                  <a:srgbClr val="ffffff"/>
                </a:solidFill>
                <a:latin typeface="Tahoma"/>
              </a:rPr>
              <a:t>, or </a:t>
            </a:r>
            <a:r>
              <a:rPr b="0" i="1" lang="en-US" sz="7800" spc="-1" strike="noStrike" u="sng">
                <a:solidFill>
                  <a:srgbClr val="ffffff"/>
                </a:solidFill>
                <a:uFillTx/>
                <a:latin typeface="Tahoma"/>
              </a:rPr>
              <a:t>thing</a:t>
            </a:r>
            <a:r>
              <a:rPr b="0" lang="en-US" sz="7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7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f7cc17"/>
                </a:solidFill>
                <a:uFillTx/>
                <a:latin typeface="Arial"/>
              </a:rPr>
              <a:t>Person</a:t>
            </a:r>
            <a:endParaRPr b="1" lang="en-US" sz="9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boy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3" descr="C:\Documents and Settings\aharkins\Local Settings\Temporary Internet Files\Content.IE5\YJAJMXUZ\MCj04282910000[1].wmf"/>
          <p:cNvPicPr/>
          <p:nvPr/>
        </p:nvPicPr>
        <p:blipFill>
          <a:blip r:embed="rId1"/>
          <a:stretch/>
        </p:blipFill>
        <p:spPr>
          <a:xfrm>
            <a:off x="4191120" y="1905120"/>
            <a:ext cx="3985920" cy="4806720"/>
          </a:xfrm>
          <a:prstGeom prst="rect">
            <a:avLst/>
          </a:prstGeom>
          <a:ln w="0">
            <a:noFill/>
          </a:ln>
        </p:spPr>
      </p:pic>
      <p:pic>
        <p:nvPicPr>
          <p:cNvPr id="98" name="MSSN00732A0000[1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044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f7cc17"/>
                </a:solidFill>
                <a:uFillTx/>
                <a:latin typeface="Arial"/>
              </a:rPr>
              <a:t>Place</a:t>
            </a: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lak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2" descr="C:\Documents and Settings\aharkins\My Documents\My Pictures\Microsoft Clip Organizer\so01226_.wmf"/>
          <p:cNvPicPr/>
          <p:nvPr/>
        </p:nvPicPr>
        <p:blipFill>
          <a:blip r:embed="rId1"/>
          <a:stretch/>
        </p:blipFill>
        <p:spPr>
          <a:xfrm>
            <a:off x="2895480" y="1371600"/>
            <a:ext cx="6562800" cy="5114880"/>
          </a:xfrm>
          <a:prstGeom prst="rect">
            <a:avLst/>
          </a:prstGeom>
          <a:ln w="0">
            <a:noFill/>
          </a:ln>
        </p:spPr>
      </p:pic>
      <p:pic>
        <p:nvPicPr>
          <p:cNvPr id="102" name="MSj00747430000[1].wav" descr=""/>
          <p:cNvPicPr/>
          <p:nvPr/>
        </p:nvPicPr>
        <p:blipFill>
          <a:blip r:embed="rId2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0206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f7cc17"/>
                </a:solidFill>
                <a:uFillTx/>
                <a:latin typeface="Arial"/>
              </a:rPr>
              <a:t>Animal</a:t>
            </a:r>
            <a:endParaRPr b="1" lang="en-US" sz="9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28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dog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C:\Documents and Settings\aharkins\Local Settings\Temporary Internet Files\Content.IE5\6LOJUT25\MPj04310180000[1].jpg"/>
          <p:cNvPicPr/>
          <p:nvPr/>
        </p:nvPicPr>
        <p:blipFill>
          <a:blip r:embed="rId1"/>
          <a:stretch/>
        </p:blipFill>
        <p:spPr>
          <a:xfrm>
            <a:off x="2971800" y="1828800"/>
            <a:ext cx="5029200" cy="5029200"/>
          </a:xfrm>
          <a:prstGeom prst="rect">
            <a:avLst/>
          </a:prstGeom>
          <a:ln w="0">
            <a:noFill/>
          </a:ln>
        </p:spPr>
      </p:pic>
      <p:pic>
        <p:nvPicPr>
          <p:cNvPr id="106" name="MSj03884500000[1].wav" descr=""/>
          <p:cNvPicPr/>
          <p:nvPr/>
        </p:nvPicPr>
        <p:blipFill>
          <a:blip r:embed="rId2"/>
          <a:stretch/>
        </p:blipFill>
        <p:spPr>
          <a:xfrm>
            <a:off x="72388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298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f7cc17"/>
                </a:solidFill>
                <a:uFillTx/>
                <a:latin typeface="Arial"/>
              </a:rPr>
              <a:t>Thing</a:t>
            </a:r>
            <a:endParaRPr b="1" lang="en-US" sz="9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airplan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3" descr="C:\Documents and Settings\aharkins\Local Settings\Temporary Internet Files\Content.IE5\O1430RC3\MCj04242060000[1].wmf"/>
          <p:cNvPicPr/>
          <p:nvPr/>
        </p:nvPicPr>
        <p:blipFill>
          <a:blip r:embed="rId1"/>
          <a:stretch/>
        </p:blipFill>
        <p:spPr>
          <a:xfrm>
            <a:off x="1981080" y="2987640"/>
            <a:ext cx="5867640" cy="3870360"/>
          </a:xfrm>
          <a:prstGeom prst="rect">
            <a:avLst/>
          </a:prstGeom>
          <a:ln w="0">
            <a:noFill/>
          </a:ln>
        </p:spPr>
      </p:pic>
      <p:pic>
        <p:nvPicPr>
          <p:cNvPr id="110" name="MacOS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436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28600" y="3805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Tahoma"/>
              </a:rPr>
              <a:t>Now, let’s practice identifying nouns.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13"/>
          <p:cNvSpPr/>
          <p:nvPr/>
        </p:nvSpPr>
        <p:spPr>
          <a:xfrm>
            <a:off x="4419720" y="1143000"/>
            <a:ext cx="2666880" cy="114300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1447920" y="380880"/>
            <a:ext cx="2133360" cy="99072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240" y="541008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*Names for people, places, animals, and things are called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ouns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077320" y="4800600"/>
            <a:ext cx="838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" name="Rectangle 6"/>
          <p:cNvGrpSpPr/>
          <p:nvPr/>
        </p:nvGrpSpPr>
        <p:grpSpPr>
          <a:xfrm>
            <a:off x="-115920" y="189000"/>
            <a:ext cx="8534520" cy="2249280"/>
            <a:chOff x="-115920" y="189000"/>
            <a:chExt cx="8534520" cy="2249280"/>
          </a:xfrm>
        </p:grpSpPr>
        <p:pic>
          <p:nvPicPr>
            <p:cNvPr id="117" name="Rectangle 6" descr=""/>
            <p:cNvPicPr/>
            <p:nvPr/>
          </p:nvPicPr>
          <p:blipFill>
            <a:blip r:embed="rId1"/>
            <a:stretch/>
          </p:blipFill>
          <p:spPr>
            <a:xfrm>
              <a:off x="-115920" y="189000"/>
              <a:ext cx="853452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0" y="304920"/>
              <a:ext cx="8305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c000"/>
                  </a:solidFill>
                  <a:latin typeface="Tahoma"/>
                </a:rPr>
                <a:t>The park was covered in snow.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Rectangle 8"/>
          <p:cNvSpPr/>
          <p:nvPr/>
        </p:nvSpPr>
        <p:spPr>
          <a:xfrm>
            <a:off x="228600" y="21337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es this sentence name a person, place or th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362320" y="289548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2292120" y="3809880"/>
            <a:ext cx="466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park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s a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plac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2438280" y="464832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now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s a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th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13"/>
          <p:cNvSpPr/>
          <p:nvPr/>
        </p:nvSpPr>
        <p:spPr>
          <a:xfrm>
            <a:off x="3429000" y="1143000"/>
            <a:ext cx="2057400" cy="106668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6019920" y="304920"/>
            <a:ext cx="2438280" cy="106668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1981080" y="380880"/>
            <a:ext cx="2438640" cy="91440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240" y="541008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*Names for people, places, animals, and things are called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ouns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80880" y="30492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Tahoma"/>
              </a:rPr>
              <a:t>The ducks and geese had no food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0" y="23623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es this sentence name a person, place or th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124080" y="320040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228600" y="388620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Duck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geese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are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animal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MacOS" descr=""/>
          <p:cNvPicPr/>
          <p:nvPr/>
        </p:nvPicPr>
        <p:blipFill>
          <a:blip r:embed="rId1"/>
          <a:stretch/>
        </p:blipFill>
        <p:spPr>
          <a:xfrm>
            <a:off x="8344080" y="52959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4"/>
          <p:cNvSpPr/>
          <p:nvPr/>
        </p:nvSpPr>
        <p:spPr>
          <a:xfrm>
            <a:off x="228600" y="46483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Food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a thing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5722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7:21:41Z</dcterms:created>
  <dc:creator>aharkins</dc:creator>
  <dc:description/>
  <cp:keywords/>
  <dc:language>en-US</dc:language>
  <cp:lastModifiedBy>Laura McDow</cp:lastModifiedBy>
  <dcterms:modified xsi:type="dcterms:W3CDTF">2010-09-17T17:09:59Z</dcterms:modified>
  <cp:revision>33</cp:revision>
  <dc:subject/>
  <dc:title>NOU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1033</vt:lpwstr>
  </property>
</Properties>
</file>